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42949BD-A1DA-4C2A-B539-F3493854CAC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293616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0F57036-FED7-4ABC-8AC4-EE3AC1486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B4C8B11-0619-4B6A-A640-B796CEAC4B4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55800" y="4486320"/>
            <a:ext cx="52387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CFA1515-F68F-4675-BCEA-BD911D44F1B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1800" cy="3511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55800" y="4485960"/>
            <a:ext cx="5238720" cy="4263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C4F050F-2415-4ABA-AB8D-C2A6EB04404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55800" y="4486320"/>
            <a:ext cx="5238720" cy="425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ssibly animate this diagram to introduce the pieces one at a time (new reused las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2D5CA64-FF54-4EE3-9A94-0194ABD1BE4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1800" cy="3511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55800" y="4485960"/>
            <a:ext cx="5238720" cy="4263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BC9638C-701C-4D40-BCA5-38B860CDFFC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1800" cy="3511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55800" y="4485960"/>
            <a:ext cx="5238720" cy="4263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76E7382-1F8A-4712-B891-2B4EC3BB1EA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1800" cy="3511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55800" y="4485960"/>
            <a:ext cx="5238720" cy="4263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E998110-9781-4F3E-B655-5531656CDBC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1800" cy="35114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55800" y="4485960"/>
            <a:ext cx="5238720" cy="4263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3308084-2FD5-4424-93C6-6FBC6DF9481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55800" y="4486320"/>
            <a:ext cx="52387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AB41076-A920-4825-8EDD-95373124FA1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1800" cy="35114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55800" y="4485960"/>
            <a:ext cx="5238720" cy="4263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38B3A4E-D7D8-4169-A760-4C3908DB9A6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1800" cy="35114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55800" y="4485960"/>
            <a:ext cx="5238720" cy="4263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15D863E-9D6E-43FD-9198-BBA7649A345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1800" cy="3511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55800" y="4485960"/>
            <a:ext cx="5238720" cy="4263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D34C05D-1FB6-46E1-BB75-F6837CF0F21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1800" cy="3511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55800" y="4485960"/>
            <a:ext cx="5238720" cy="4263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EA8EEB4-8C9B-411F-B94B-FA04DF81804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1800" cy="3511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55800" y="4485960"/>
            <a:ext cx="5238720" cy="4263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937412A-74AB-43B2-B44B-CBC3764C783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1800" cy="3511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55800" y="4485960"/>
            <a:ext cx="5238720" cy="4263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F74FA2E-AE65-46C5-AFDF-620E44CBBFB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1800" cy="3511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55800" y="4485960"/>
            <a:ext cx="5238720" cy="4263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6AFADC1-BCDE-4B7B-B7BF-3D9252627CD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33360" y="723960"/>
            <a:ext cx="4681800" cy="3511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55800" y="4485960"/>
            <a:ext cx="5238720" cy="4263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3730-3E37-4249-B4EC-EED234AACBA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3292-1A3A-4422-9DF4-431D648D4507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3E57-45B8-47C4-B589-01D72507976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B5F5-118E-499E-9595-110D8D4A2BC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Placeholder 5" descr=""/>
          <p:cNvPicPr/>
          <p:nvPr/>
        </p:nvPicPr>
        <p:blipFill>
          <a:blip r:embed="rId3"/>
          <a:srcRect l="9028" t="0" r="0" b="0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6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C48F-7863-404D-8E56-36C1F48F3B2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9882-874D-4F68-AC59-B1AB14286C2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412A-6676-4C54-BFB9-5C39C24A675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FB2D-5B7B-4649-A71D-43427985737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5" descr=""/>
          <p:cNvPicPr/>
          <p:nvPr/>
        </p:nvPicPr>
        <p:blipFill>
          <a:blip r:embed="rId3"/>
          <a:srcRect l="5173" t="0" r="0" b="0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78BC-BF21-404A-B237-84606CA583A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8205-4376-4F91-B592-D9723D373E47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8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3"/>
          <p:cNvSpPr/>
          <p:nvPr/>
        </p:nvSpPr>
        <p:spPr>
          <a:xfrm>
            <a:off x="4413240" y="641196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SP Fundamentals: Day 2 Agen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0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C480-D083-4D74-8DC5-5F40ED963EF7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DB9D-E630-4652-B8A5-E45EAE12DD9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FB42-BA49-40C5-8795-F40F085AFF8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7DE5-6BD5-4FDD-B7CE-5A1F924982E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B917-68B6-44B8-94EB-982E44E0603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2293-382F-4D4D-9C07-72571E6A4E4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 - Using PSP0.1 - </a:t>
            </a:r>
            <a:fld id="{242A788A-AFE4-4EE7-B9BC-E3E00DF3CA0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79280" y="17888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ersonal Software Process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r Engineers: Part I</a:t>
            </a:r>
            <a:br>
              <a:rPr sz="4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torial: Using PSP0.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6071760" y="1819440"/>
            <a:ext cx="2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695"/>
                </a:solidFill>
                <a:latin typeface="Arial"/>
              </a:rPr>
              <a:t>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0.1 Project Plan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51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0.1 adds the Program Size Summary for estimated and actual siz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ypes of size 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[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d [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 [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[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d [R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and modified [A+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u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15" descr=""/>
          <p:cNvPicPr/>
          <p:nvPr/>
        </p:nvPicPr>
        <p:blipFill>
          <a:blip r:embed="rId1"/>
          <a:srcRect l="2489" t="4461" r="5030" b="2732"/>
          <a:stretch/>
        </p:blipFill>
        <p:spPr>
          <a:xfrm>
            <a:off x="4735440" y="1582560"/>
            <a:ext cx="3462480" cy="50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Size Type Relationsh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8"/>
          <p:cNvSpPr/>
          <p:nvPr/>
        </p:nvSpPr>
        <p:spPr>
          <a:xfrm>
            <a:off x="6603840" y="2487600"/>
            <a:ext cx="685800" cy="1754280"/>
          </a:xfrm>
          <a:custGeom>
            <a:avLst/>
            <a:gdLst>
              <a:gd name="textAreaLeft" fmla="*/ 0 w 685800"/>
              <a:gd name="textAreaRight" fmla="*/ 247680 w 685800"/>
              <a:gd name="textAreaTop" fmla="*/ 45720 h 1754280"/>
              <a:gd name="textAreaBottom" fmla="*/ 1708560 h 175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9"/>
          <p:cNvSpPr/>
          <p:nvPr/>
        </p:nvSpPr>
        <p:spPr>
          <a:xfrm>
            <a:off x="7404120" y="302256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&amp;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0"/>
          <p:cNvSpPr/>
          <p:nvPr/>
        </p:nvSpPr>
        <p:spPr>
          <a:xfrm>
            <a:off x="1054080" y="1714680"/>
            <a:ext cx="23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1"/>
          <p:cNvSpPr/>
          <p:nvPr/>
        </p:nvSpPr>
        <p:spPr>
          <a:xfrm>
            <a:off x="4483080" y="1714680"/>
            <a:ext cx="25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21" descr="S11"/>
          <p:cNvPicPr/>
          <p:nvPr/>
        </p:nvPicPr>
        <p:blipFill>
          <a:blip r:embed="rId1"/>
          <a:stretch/>
        </p:blipFill>
        <p:spPr>
          <a:xfrm>
            <a:off x="1084320" y="2451240"/>
            <a:ext cx="53751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017360" y="1709280"/>
            <a:ext cx="741348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69360" indent="-369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94280" indent="-3697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is is an enhancement, measure the size of the base program and enter this in the Base (B) space under Act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94280" indent="-3697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 the added and modified size and enter this in the Total Added and Modified (A+M) space under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3" descr="S12"/>
          <p:cNvPicPr/>
          <p:nvPr/>
        </p:nvPicPr>
        <p:blipFill>
          <a:blip r:embed="rId1"/>
          <a:stretch/>
        </p:blipFill>
        <p:spPr>
          <a:xfrm>
            <a:off x="2103480" y="3913200"/>
            <a:ext cx="49179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Development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017360" y="1709280"/>
            <a:ext cx="741348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93840" indent="-393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plan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393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estimated development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393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ned time in phase is then calculated based on the percentage of time in phase for all completed projec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13" descr="S13"/>
          <p:cNvPicPr/>
          <p:nvPr/>
        </p:nvPicPr>
        <p:blipFill>
          <a:blip r:embed="rId1"/>
          <a:stretch/>
        </p:blipFill>
        <p:spPr>
          <a:xfrm>
            <a:off x="1698480" y="3247920"/>
            <a:ext cx="570888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ing Size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017360" y="1609560"/>
            <a:ext cx="741348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81240" indent="-3812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postmor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8240" indent="-3812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total program size and enter this in the Total Size (T) space under Act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8240" indent="-3812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the deleted size and enter this in the Deleted (D) space under Act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8240" indent="-3812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the modified size and enter this in the Modified (M) space under Act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8" descr="S14"/>
          <p:cNvPicPr/>
          <p:nvPr/>
        </p:nvPicPr>
        <p:blipFill>
          <a:blip r:embed="rId1"/>
          <a:stretch/>
        </p:blipFill>
        <p:spPr>
          <a:xfrm>
            <a:off x="2112840" y="3884760"/>
            <a:ext cx="491832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ing Size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017360" y="1709640"/>
            <a:ext cx="7413480" cy="20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97800" indent="-397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postmor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3978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nt the reused size and enter this in the Reused (R) space under Actu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3978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nt or estimate the number of new and changed size that will be added to the reuse library and in the New Reusable space under Act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2" descr="S15"/>
          <p:cNvPicPr/>
          <p:nvPr/>
        </p:nvPicPr>
        <p:blipFill>
          <a:blip r:embed="rId1"/>
          <a:stretch/>
        </p:blipFill>
        <p:spPr>
          <a:xfrm>
            <a:off x="2141640" y="3903840"/>
            <a:ext cx="49179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 to Reme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r principal objective is to measure and estimate the size of the programs that you produce so that you can effectively plan and manage your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torial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this tutorial, you w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PSP0.1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 how to use the PSP0.1 process scripts and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prepared to use PSP0.1 for program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0.1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bjectives of PSP0.1 are to help you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 the size of the programs that you produ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form size accounting for the programs that you produ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accurate and precise size measu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Process E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two new process el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improvement proposal (PIP)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ze counting and coding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ject plan summary has been expan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 Size Summary section has been ad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ned time in phase is calculated based on historical time in phase percent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0.1 Process Script Add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dditions to the PSP0.1 process scripts include new steps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and reporting software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tributing development time over planned project ph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a size counting and coding stand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ing process problems and improvement ide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Improvement Proposal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improve your process, you will need to capture process problems and propose improvements for future refere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ill need to kn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 problems you have encountered in using the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 suggestions you have for process improv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r observations and findings from doing the assig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Improvement Proposal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017720" y="1709640"/>
            <a:ext cx="30700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should complete a PIP form for each assig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IP holds process improvement in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s and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4" descr=""/>
          <p:cNvPicPr/>
          <p:nvPr/>
        </p:nvPicPr>
        <p:blipFill>
          <a:blip r:embed="rId1"/>
          <a:srcRect l="0" t="5647" r="3147" b="2591"/>
          <a:stretch/>
        </p:blipFill>
        <p:spPr>
          <a:xfrm>
            <a:off x="4297320" y="1743120"/>
            <a:ext cx="4332240" cy="45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ing and Counting Stand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ing and size counting standards are needed to write the PSP progra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standards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ilored to your language and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ed to make size counting eas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ding standard defines quality-oriented exit criteria for the code ph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 Software Size Meas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PSP, software size measures are used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e the amount of product produced with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ort expended to project total eff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produ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ize de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 the total de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ftware size is measured in LO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accurately relate size to effort, the different types of LOC in your program are counted separate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5:25Z</dcterms:modified>
  <cp:revision>141</cp:revision>
  <dc:subject/>
  <dc:title>No Slide Title</dc:title>
</cp:coreProperties>
</file>